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718-00E0-4D69-98BC-53332EDE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2DD-2C93-49FC-B649-6F394641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08D-26D8-4351-9AED-3B1BAA88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24A-E8B5-4690-82CC-3956F5FB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4C1-1835-4535-8185-94125FAE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F22-A998-4AFB-9A5D-FD065D38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680-8646-4F65-9123-B7B7A640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7704-2D30-4862-A14A-4F1D191A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354-5A50-469A-84AF-5ABB0C03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B03-856B-4EE2-BC6E-070B174D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5065-20AA-4FA2-8D9D-0985AABC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CFD-1EDB-4CC7-9ED4-0E9C3E24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c2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5F9F-A049-476F-86A0-C493DFF21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Washington School</a:t>
            </a:r>
            <a:br>
              <a:rPr sz="5400"/>
            </a:b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Kindergarten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pic>
        <p:nvPicPr>
          <p:cNvPr id="42" name="Picture 5" descr="MPj04395080000[1]"/>
          <p:cNvPicPr/>
          <p:nvPr/>
        </p:nvPicPr>
        <p:blipFill>
          <a:blip r:embed="rId1"/>
          <a:stretch/>
        </p:blipFill>
        <p:spPr>
          <a:xfrm>
            <a:off x="3048120" y="2590920"/>
            <a:ext cx="2714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4. Vocabulary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words students acquire, the better chance they will have for success in reading and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2216160" cy="288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3657600" y="3124080"/>
            <a:ext cx="2257560" cy="289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tretch/>
        </p:blipFill>
        <p:spPr>
          <a:xfrm>
            <a:off x="6400800" y="3200400"/>
            <a:ext cx="2205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5. Comprehension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on questions and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of literature (characters, setting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ety of literature typ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curricular areas (math, social studies, science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Assessment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ups on taught skills every 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of semester cumulative summ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testing (Measures of Academic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BELS testing (Dynamic Indicators of Basic Early Literacy Sk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Writers’ Workshop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procal to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s begin with group mini-lesson and then students write 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Genres t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(“How To …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mini-les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ienting print from left to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end punc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ving spaces betwee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Handwriting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son Handwriting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to correct letter and number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pos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-to-righ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 g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 motor activities to enh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Math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endar/Counting M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 Foresman Investigation S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ore with manipul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c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Math Skills Explored</a:t>
            </a:r>
            <a:r>
              <a:rPr b="0" lang="en-US" sz="4400" spc="-1" strike="noStrike">
                <a:solidFill>
                  <a:srgbClr val="fec2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and extending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numbers up to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numerals correctly up to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ing to 30 with one to one correspo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ing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 by 1s, 10s, and 100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ng sets and l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ng and subtra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Social Studies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s self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s ideas of history, economics, geography, civics and govt. through developmentally appropriat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cus on events in our nation’s history and cultures in other parts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through literature, artifacts, field trips, speaker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Character Education:</a:t>
            </a:r>
            <a:br>
              <a:rPr sz="5400"/>
            </a:b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Heartwood Program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attributes are featured through stories, discussion and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./Oct. – Re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– Hones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 – L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–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– Cou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– Loya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- H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Science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T unit focusing on tr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al changes, wetlands, seed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-on activities, field trips, models, artifacts, speakers, investigations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skill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ef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Collec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Drawing conclus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The Kindergarten Year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year of tremendous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the whole child in kinderg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 academic, social, emotional and behavior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in the year - focus on getting used to school and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kills still developing – teachabl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exciting and overwhelming at tim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Technology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XIA and Starfall programs to support early rea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math sites to practice math skills of patterning, matching, adding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s to provide information and games on social science concepts (recycling, animals, insects, birds, artists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by classroom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ic and art are a part of every kindergarten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m time once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rary class once a week with Mrs. Eg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Special Subjects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Class Schedule</a:t>
            </a:r>
            <a:r>
              <a:rPr b="0" lang="en-US" sz="4400" spc="-1" strike="noStrike">
                <a:solidFill>
                  <a:srgbClr val="fec2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00"/>
                </a:solidFill>
                <a:latin typeface="Arial"/>
              </a:rPr>
              <a:t>* 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This typical schedule may vary due to special programs.  Computer, art, and social studies and science are integrated throughout the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come s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Kindergarten N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dge of Allegi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view of dail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endar/Counting M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s and mont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s of scho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Number of students in atten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numb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Patterns on the calen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mic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Lesson/Librar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Class Schedule cont.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Center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moves into small-group or independent learn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 facilitated small group phonics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e related activities utilizing art, math or science, fine motor, computer, and writ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/Gy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rs’ Workshop/Math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 up/Dismis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0"/>
                      </p:stCondLst>
                      <p:childTnLst>
                        <p:par>
                          <p:cTn id="6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Miscellaneous Information</a:t>
            </a:r>
            <a:br>
              <a:rPr sz="4000"/>
            </a:b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pac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boo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Tr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bs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Drop-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th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724280" y="1676520"/>
            <a:ext cx="3886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s/Show &amp; T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/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miss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y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t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Kindergarten</a:t>
            </a:r>
            <a:r>
              <a:rPr b="0" lang="en-US" sz="5400" spc="-1" strike="noStrike">
                <a:solidFill>
                  <a:srgbClr val="0000cc"/>
                </a:solidFill>
                <a:latin typeface="Lucida Sans"/>
              </a:rPr>
              <a:t> </a:t>
            </a: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Curriculum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pic>
        <p:nvPicPr>
          <p:cNvPr id="46" name="Picture 4" descr="MCj04241680000[1]"/>
          <p:cNvPicPr/>
          <p:nvPr/>
        </p:nvPicPr>
        <p:blipFill>
          <a:blip r:embed="rId1"/>
          <a:stretch/>
        </p:blipFill>
        <p:spPr>
          <a:xfrm>
            <a:off x="2362320" y="1905120"/>
            <a:ext cx="4346280" cy="38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Language Arts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honemic awareness, phonics, decoding, high-frequency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eciation of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105520" y="1905120"/>
            <a:ext cx="312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Five Essential Elements of Reading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honemic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h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Fl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1. Phonemic Awareness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e and manipulate s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PA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beginning sound in t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nding sound in bi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two words begin with the same sou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words rhy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all of the sounds in h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2. Phonics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sounds to letters in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letters and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ing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bet taught in a unique order that is research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a few consonants are taught, then a vowel, and then blend these sounds to build w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short vowe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3. Fluency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quickly decode words or recognize sight words to make text flow smoothly (comes after lots of practic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read-aloud, small group, whole class, and individual o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ies read more than once to help children become more fluent rea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 DELANEY"/>
              </a:rPr>
              <a:t>Sight Words</a:t>
            </a:r>
            <a:endParaRPr b="0" lang="en-US" sz="5400" spc="-1" strike="noStrike">
              <a:solidFill>
                <a:srgbClr val="fec2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kindergarten sight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to know them without sounding them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Know it Wor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6:03:31Z</dcterms:created>
  <dc:creator>Owner</dc:creator>
  <dc:description/>
  <dc:language>en-US</dc:language>
  <cp:lastModifiedBy>Auslander</cp:lastModifiedBy>
  <dcterms:modified xsi:type="dcterms:W3CDTF">2011-09-13T02:29:55Z</dcterms:modified>
  <cp:revision>74</cp:revision>
  <dc:subject/>
  <dc:title>Washington School Kindergarten</dc:title>
</cp:coreProperties>
</file>